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059C-AEB7-41F5-8A63-7A3731A77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0DF8-0539-4979-AC4A-B6600F78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E702-8E22-466D-9934-3ED8098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C2E4-CE60-4A4A-A18E-064746B51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E52D-3FC8-4273-89BE-F3116920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03DB-E872-490C-BD62-7953BE73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B13B-892C-4D95-8521-A32ED1C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0581-184E-4E66-9C20-620FE935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9217-801E-4886-A3CC-AAF395BB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DF0B-B7BE-49A7-BDC0-B0D27AC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2F81-E129-4B16-9B02-3CF9575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AE80-2805-4A14-916C-C497A7B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FD1-01B8-4124-964A-AF9B05CB2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ANUAL DE GEST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3280" y="1968480"/>
            <a:ext cx="8663040" cy="41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362320"/>
            <a:ext cx="459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10/05 – Avaliação AGEVAP (CA+Loba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01680" y="4815000"/>
            <a:ext cx="565812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02/06 – Oficina CEIVAP /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4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8/06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9080" y="321948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7960" y="685800"/>
            <a:ext cx="8609040" cy="59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1351080"/>
            <a:ext cx="403848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1390680"/>
            <a:ext cx="4267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1,7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M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CIMENTO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5 MAR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RROGAÇÃO 31 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SÃO CON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048280"/>
            <a:ext cx="367668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T CACG + AGEVAP +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52920" y="5181480"/>
            <a:ext cx="45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74336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2280" y="1104840"/>
            <a:ext cx="4800600" cy="78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5440" y="3645000"/>
            <a:ext cx="49528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7840" y="2247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IFICADO PROCESSO DE SELEÇÃO DE PESSO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5048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62080" y="600084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87400" y="2457360"/>
            <a:ext cx="563904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933640"/>
            <a:ext cx="3676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DBO ABA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236844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348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5-11T13:52:40Z</dcterms:modified>
  <cp:revision>818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